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6682301"/>
        <c:axId val="31938474"/>
      </c:barChart>
      <c:catAx>
        <c:axId val="8668230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1938474"/>
        <c:crosses val="autoZero"/>
        <c:auto val="1"/>
        <c:lblAlgn val="ctr"/>
        <c:lblOffset val="100"/>
        <c:noMultiLvlLbl val="0"/>
      </c:catAx>
      <c:valAx>
        <c:axId val="3193847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668230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E7E1D-6F64-48AF-A3F3-EDC554885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F0B90-1E97-445D-A6CD-DAC394B40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77CE4-BEDE-4135-81CD-895DF4D3F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3D64F-1EBA-4F7C-A3E4-5076EF79B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32A0A-8B69-45ED-967E-DCD4EF6D5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715D8-4302-4EF6-AB81-5873580CC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F801E-6641-445B-A9A4-CA41463A3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38129-B996-492C-BECA-0695C0BB4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A3224-C40A-4961-BFEB-A3192E71A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CD03A-1B96-4F07-A68F-0872EC1DD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FE034-3AF4-405B-942C-7DFF550FE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F9131-49FC-42DA-BA9C-E84BFDA9B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E25FE-1F1A-4ACA-ADA0-01B74E4EF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244D5-8684-4C59-9BEC-6B665FC1F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31654-AC4C-40C5-847E-F08B5202C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6BE84-9B28-4DFF-8880-25EDBEB93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423EC-9955-4D1B-AE8F-88431E33B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79077-1669-4855-8EC1-DA6F9C2BD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2889A-CCFC-4E18-89BD-9D4BE4485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DB530-68A5-453D-8704-C052C3BAA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AA021-BDBB-43C7-A447-1A3F6DF76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EB7B-1A95-4C1E-AE39-9FA714B7E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DC6C-F87B-4CCC-AF19-3295D8ACD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96AAF-FC2D-4ADF-BD34-CE4F8ECB3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908CA8-4FFB-405A-B346-7B8A0C93B19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0FC63E-A89A-4A14-BD49-6669B1153DE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