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4389187"/>
        <c:axId val="4890968"/>
      </c:barChart>
      <c:catAx>
        <c:axId val="7438918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890968"/>
        <c:crosses val="autoZero"/>
        <c:auto val="1"/>
        <c:lblAlgn val="ctr"/>
        <c:lblOffset val="100"/>
        <c:noMultiLvlLbl val="0"/>
      </c:catAx>
      <c:valAx>
        <c:axId val="489096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438918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D055F-2545-4344-8E5B-13F761C0E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04AE-01B3-4759-896C-27B75ED7E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63416-C39A-4216-950C-CFC4EFD44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0F3F3-3B53-4E92-AA80-C76DA9F15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6186B-0939-4B2D-B075-82B501070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95500-0AF2-46EB-B3F5-5F6866ADA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DB00C-92C8-459F-AED0-C31F43570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FE581-8F91-4732-A546-67AF73780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8C01D-124D-45B8-9BDE-2CF6BB02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94A5F-C3C6-41A6-8916-FE3F6C19A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C0AD1-9650-401A-8456-9018DC992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12B32-78E1-45D2-B479-16A5FE333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A7AC6-A79F-4D2B-A937-2855D64E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494E-827B-4D53-9268-FBBCAD2A9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A4EAA-EC5D-46A9-945C-03260F07E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0B788-696A-47CE-BC6F-564211E9E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F65FA-8EE0-46D3-B7C7-8E4F7DDE3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92338-3125-4381-B64A-B03AC296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3EDB9-A894-4C8D-A6FE-427C32369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FF26-4D40-4288-87B7-0B478CD7A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DE704-D702-49F6-B424-7CE4F44C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E814-1D3E-4D03-AF32-8BB9B415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044B-5071-4F81-84D4-14855D5E0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7BD3-C27A-4513-9764-C2E046DD3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21BD2-BD9F-4637-8CC5-4CEE261DF12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5CC36-983A-4A3D-A9B5-9411095CC22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