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642037"/>
        <c:axId val="30793507"/>
      </c:barChart>
      <c:catAx>
        <c:axId val="642037"/>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0793507"/>
        <c:crosses val="autoZero"/>
        <c:auto val="1"/>
        <c:lblAlgn val="ctr"/>
        <c:lblOffset val="100"/>
        <c:noMultiLvlLbl val="0"/>
      </c:catAx>
      <c:valAx>
        <c:axId val="30793507"/>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42037"/>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FFA29-8C1F-45DE-87B5-59E85B071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D7BB4-D2EF-4FE4-8AF7-62B1FFEDF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E3B20-D4B3-4C90-AC4F-88B4776F5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E3D45-2E88-4D49-818E-E996B5346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E24BF-383C-41F0-A917-0A41394D8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58F54-76DD-43BD-9F4D-1AC736F0B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A74BC-2077-4FA0-9EA9-C80D7DDF5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D1FDA-2934-4B22-9C7A-D3354B0B8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F6D94-3022-42CA-B120-02BDF7DF6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28E00-6945-4CED-A01E-9BA43D533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F5509-CEC1-4F8D-BC9D-07DE022BF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25962-1EBE-4AAB-A9EF-3C2A7FFB5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4043F-ED75-4E14-866F-05F041D0B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ACCAF-AF3D-4026-A581-228B24832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15471-FE62-426C-A777-635846A18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B0559-7F92-45BF-9572-7BAEFA52D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29AA6-2271-4E8F-864A-03BF6ACD6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BECD2-376A-4B91-98BA-D6B5B7A7F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00547-DAF5-4636-B983-A50B10291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2F5F1-F2DD-4E10-B187-499FF44AC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3DADE-E80F-4788-BC50-202637549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4F0EE-AD92-4FB5-B4C8-E509B6C49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0B17D-EEEC-40FB-80C5-9B7DC6A23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D34A4-8CBF-4628-BD4A-9C7A1DC3C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53E6E1-DD03-45A9-A7E9-DEF4A2469D9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2C0E8D-AEE9-4234-A4F5-5AF708B2A23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